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8A9-5172-4FF0-BD38-6BE46373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E5F-71E5-4D03-94A1-F65761BD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64B-2AC3-46B4-9E4B-3C59A711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0C7-338D-45B7-8C73-D0705A98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7E56-A0B8-4E43-A743-D10DA017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E06F-B73A-44CA-9DDD-D527C2FC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C90E-CF52-4B6F-B62E-E97166BA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FE21-1567-4390-A8D3-E0DBB937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67F4-33C2-4962-9E49-034B0FD0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338A-5DD0-403E-8ECA-E5629A4B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CE1D-6783-4981-A957-32C7FEC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9C0-CCDA-4563-AB03-53E8900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030-E1BF-4D67-AA8B-DD8F1BA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767D-BB7B-4491-9355-A0C4A40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671C-B397-445B-99C2-E41A06F6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4F45-5EB0-4ACC-B031-44C50F23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FA6B-BD62-4FDE-BAE6-D8DCE7F0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3B9-7CC8-4603-A8FB-9A373590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EBB-5899-4C30-9A17-521854D0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B7A-42CC-4E3A-86B7-3CA023B3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AFE-4888-43FD-AA95-6B0BD06A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C28-8B76-400D-B69D-87CD0AB3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FFC-62F8-41D2-BDF1-BA78FC94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645-2285-4E4A-8D43-BB7EDD33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6D76-3485-4E34-B28D-2EA67964DEB5}" type="slidenum">
              <a:rPr b="0" lang="sl-SI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9A6-2DE7-4B90-B560-BC404648A918}" type="slidenum">
              <a:rPr b="0" lang="sl-SI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490680"/>
            <a:ext cx="7086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GOZDOVI SO BOGASTV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9" name="gozd_mešan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30840" cy="4686120"/>
          </a:xfrm>
          <a:prstGeom prst="rect">
            <a:avLst/>
          </a:prstGeom>
          <a:ln w="0">
            <a:noFill/>
          </a:ln>
        </p:spPr>
      </p:pic>
      <p:pic>
        <p:nvPicPr>
          <p:cNvPr id="90" name="gozd_zima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238560" cy="4317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JESE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6" name="vrsta_jesen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11760" cy="3593880"/>
          </a:xfrm>
          <a:prstGeom prst="rect">
            <a:avLst/>
          </a:prstGeom>
          <a:ln w="0">
            <a:noFill/>
          </a:ln>
        </p:spPr>
      </p:pic>
      <p:pic>
        <p:nvPicPr>
          <p:cNvPr id="117" name="vrsta_jesen_les" descr=""/>
          <p:cNvPicPr/>
          <p:nvPr/>
        </p:nvPicPr>
        <p:blipFill>
          <a:blip r:embed="rId3"/>
          <a:stretch/>
        </p:blipFill>
        <p:spPr>
          <a:xfrm>
            <a:off x="1752480" y="3429000"/>
            <a:ext cx="102420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GAB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9" name="vrsta_gaber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533840" cy="3593880"/>
          </a:xfrm>
          <a:prstGeom prst="rect">
            <a:avLst/>
          </a:prstGeom>
          <a:ln w="0">
            <a:noFill/>
          </a:ln>
        </p:spPr>
      </p:pic>
      <p:pic>
        <p:nvPicPr>
          <p:cNvPr id="120" name="vrsta_gaber_les" descr=""/>
          <p:cNvPicPr/>
          <p:nvPr/>
        </p:nvPicPr>
        <p:blipFill>
          <a:blip r:embed="rId3"/>
          <a:stretch/>
        </p:blipFill>
        <p:spPr>
          <a:xfrm>
            <a:off x="167652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HRA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vrsta_hrast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444920" cy="3593880"/>
          </a:xfrm>
          <a:prstGeom prst="rect">
            <a:avLst/>
          </a:prstGeom>
          <a:ln w="0">
            <a:noFill/>
          </a:ln>
        </p:spPr>
      </p:pic>
      <p:pic>
        <p:nvPicPr>
          <p:cNvPr id="123" name="vrsta_hrast_les" descr=""/>
          <p:cNvPicPr/>
          <p:nvPr/>
        </p:nvPicPr>
        <p:blipFill>
          <a:blip r:embed="rId3"/>
          <a:stretch/>
        </p:blipFill>
        <p:spPr>
          <a:xfrm>
            <a:off x="662940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PLASTI DREVESNEGA DEBL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5" name="zgradba_plasti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5461200" cy="431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315200" y="373392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3861"/>
              <a:gd name="adj6" fmla="val -127416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m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95288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504"/>
              <a:gd name="adj6" fmla="val -273703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črn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43434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273"/>
              <a:gd name="adj6" fmla="val -185407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l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5200" y="312408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898"/>
              <a:gd name="adj6" fmla="val -89342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č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25146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25898"/>
              <a:gd name="adj6" fmla="val -57041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b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zgradba_prerezi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RANIKA in PREREZI LESA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895480"/>
            <a:ext cx="221004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03449"/>
              <a:gd name="adj5" fmla="val 28810"/>
              <a:gd name="adj6" fmla="val 202296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ladanski del bran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752480"/>
            <a:ext cx="221004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03449"/>
              <a:gd name="adj5" fmla="val 147513"/>
              <a:gd name="adj6" fmla="val 195537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imski del bran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2680" y="23353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č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08600" y="41641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ngencial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12680" y="416412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ial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zgradba_panj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523260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VIDNE POSEBNOSTI LES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486400"/>
            <a:ext cx="2514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03032"/>
              <a:gd name="adj5" fmla="val -496944"/>
              <a:gd name="adj6" fmla="val 131560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ženi t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6095880"/>
            <a:ext cx="25905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02939"/>
              <a:gd name="adj5" fmla="val -633175"/>
              <a:gd name="adj6" fmla="val 135041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žen ža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18288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107351"/>
              <a:gd name="adj6" fmla="val -106111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32004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85990"/>
              <a:gd name="adj6" fmla="val -108078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m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514600"/>
            <a:ext cx="13716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55"/>
              <a:gd name="adj5" fmla="val 61814"/>
              <a:gd name="adj6" fmla="val -47439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č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LES POSEKAMO, KO  MIRUJ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6" name="gozd_hlodovina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48006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OD DEBLA DO DES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razrez_oblikovanje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946240" cy="4317840"/>
          </a:xfrm>
          <a:prstGeom prst="rect">
            <a:avLst/>
          </a:prstGeom>
          <a:ln w="0">
            <a:noFill/>
          </a:ln>
        </p:spPr>
      </p:pic>
      <p:pic>
        <p:nvPicPr>
          <p:cNvPr id="149" name="razrez_zaganje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409760" cy="4317840"/>
          </a:xfrm>
          <a:prstGeom prst="rect">
            <a:avLst/>
          </a:prstGeom>
          <a:ln w="0">
            <a:noFill/>
          </a:ln>
        </p:spPr>
      </p:pic>
      <p:pic>
        <p:nvPicPr>
          <p:cNvPr id="150" name="razrez_izdelki" descr=""/>
          <p:cNvPicPr/>
          <p:nvPr/>
        </p:nvPicPr>
        <p:blipFill>
          <a:blip r:embed="rId4"/>
          <a:stretch/>
        </p:blipFill>
        <p:spPr>
          <a:xfrm>
            <a:off x="6934320" y="1676520"/>
            <a:ext cx="1371600" cy="427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82400"/>
                </a:solidFill>
                <a:latin typeface="Times New Roman"/>
              </a:rPr>
              <a:t>DELOVANJE POLIZDELKOV GLEDE NA LEGO V DEBLU</a:t>
            </a:r>
            <a:endParaRPr b="0" lang="en-US" sz="3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razrez_delovanje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3962520" cy="4317840"/>
          </a:xfrm>
          <a:prstGeom prst="rect">
            <a:avLst/>
          </a:prstGeom>
          <a:ln w="0">
            <a:noFill/>
          </a:ln>
        </p:spPr>
      </p:pic>
      <p:pic>
        <p:nvPicPr>
          <p:cNvPr id="153" name="razrez_zvezda" descr=""/>
          <p:cNvPicPr/>
          <p:nvPr/>
        </p:nvPicPr>
        <p:blipFill>
          <a:blip r:embed="rId3"/>
          <a:stretch/>
        </p:blipFill>
        <p:spPr>
          <a:xfrm>
            <a:off x="5791320" y="1676520"/>
            <a:ext cx="2869920" cy="4317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NEKAJ LESENIH IZDELKOV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5" name="les_izdelki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3071520" cy="4876560"/>
          </a:xfrm>
          <a:prstGeom prst="rect">
            <a:avLst/>
          </a:prstGeom>
          <a:ln w="0">
            <a:noFill/>
          </a:ln>
        </p:spPr>
      </p:pic>
      <p:pic>
        <p:nvPicPr>
          <p:cNvPr id="156" name="les_parket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3303720" cy="1816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SMREK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2" name="vrsta_smreka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2273400" cy="3593880"/>
          </a:xfrm>
          <a:prstGeom prst="rect">
            <a:avLst/>
          </a:prstGeom>
          <a:ln w="0">
            <a:noFill/>
          </a:ln>
        </p:spPr>
      </p:pic>
      <p:pic>
        <p:nvPicPr>
          <p:cNvPr id="93" name="vrsta_smreka_les" descr=""/>
          <p:cNvPicPr/>
          <p:nvPr/>
        </p:nvPicPr>
        <p:blipFill>
          <a:blip r:embed="rId3"/>
          <a:stretch/>
        </p:blipFill>
        <p:spPr>
          <a:xfrm>
            <a:off x="5638680" y="3429000"/>
            <a:ext cx="1024200" cy="2570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B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5" name="vrsta_bor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3035160" cy="3593880"/>
          </a:xfrm>
          <a:prstGeom prst="rect">
            <a:avLst/>
          </a:prstGeom>
          <a:ln w="0">
            <a:noFill/>
          </a:ln>
        </p:spPr>
      </p:pic>
      <p:pic>
        <p:nvPicPr>
          <p:cNvPr id="96" name="vrsta_bor_les" descr=""/>
          <p:cNvPicPr/>
          <p:nvPr/>
        </p:nvPicPr>
        <p:blipFill>
          <a:blip r:embed="rId3"/>
          <a:stretch/>
        </p:blipFill>
        <p:spPr>
          <a:xfrm>
            <a:off x="6019920" y="3581280"/>
            <a:ext cx="1023840" cy="2570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MACESE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vrsta_macesen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568680" cy="3593880"/>
          </a:xfrm>
          <a:prstGeom prst="rect">
            <a:avLst/>
          </a:prstGeom>
          <a:ln w="0">
            <a:noFill/>
          </a:ln>
        </p:spPr>
      </p:pic>
      <p:pic>
        <p:nvPicPr>
          <p:cNvPr id="99" name="vrsta_macesen_les" descr=""/>
          <p:cNvPicPr/>
          <p:nvPr/>
        </p:nvPicPr>
        <p:blipFill>
          <a:blip r:embed="rId3"/>
          <a:stretch/>
        </p:blipFill>
        <p:spPr>
          <a:xfrm>
            <a:off x="228600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JELK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1" name="vrsta_jelka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793960" cy="3593880"/>
          </a:xfrm>
          <a:prstGeom prst="rect">
            <a:avLst/>
          </a:prstGeom>
          <a:ln w="0">
            <a:noFill/>
          </a:ln>
        </p:spPr>
      </p:pic>
      <p:pic>
        <p:nvPicPr>
          <p:cNvPr id="102" name="vrsta_jelka_les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1023840" cy="2570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482400"/>
                </a:solidFill>
                <a:latin typeface="Times New Roman"/>
              </a:rPr>
              <a:t>LIP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vrsta_lipa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619440" cy="3593880"/>
          </a:xfrm>
          <a:prstGeom prst="rect">
            <a:avLst/>
          </a:prstGeom>
          <a:ln w="0">
            <a:noFill/>
          </a:ln>
        </p:spPr>
      </p:pic>
      <p:pic>
        <p:nvPicPr>
          <p:cNvPr id="105" name="vrsta_lipa_les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UKEV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7" name="vrsta_bukev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848400" cy="3593880"/>
          </a:xfrm>
          <a:prstGeom prst="rect">
            <a:avLst/>
          </a:prstGeom>
          <a:ln w="0">
            <a:noFill/>
          </a:ln>
        </p:spPr>
      </p:pic>
      <p:pic>
        <p:nvPicPr>
          <p:cNvPr id="108" name="vrsta_bukev_les" descr=""/>
          <p:cNvPicPr/>
          <p:nvPr/>
        </p:nvPicPr>
        <p:blipFill>
          <a:blip r:embed="rId3"/>
          <a:stretch/>
        </p:blipFill>
        <p:spPr>
          <a:xfrm>
            <a:off x="1828800" y="3352680"/>
            <a:ext cx="1023840" cy="2570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ORE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0" name="vrsta_oreh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280040" cy="3593880"/>
          </a:xfrm>
          <a:prstGeom prst="rect">
            <a:avLst/>
          </a:prstGeom>
          <a:ln w="0">
            <a:noFill/>
          </a:ln>
        </p:spPr>
      </p:pic>
      <p:pic>
        <p:nvPicPr>
          <p:cNvPr id="111" name="vrsta_oreh_les" descr=""/>
          <p:cNvPicPr/>
          <p:nvPr/>
        </p:nvPicPr>
        <p:blipFill>
          <a:blip r:embed="rId3"/>
          <a:stretch/>
        </p:blipFill>
        <p:spPr>
          <a:xfrm>
            <a:off x="6553080" y="3505320"/>
            <a:ext cx="102420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KOSTANJ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3" name="vrsta_kostanj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454200" cy="3593880"/>
          </a:xfrm>
          <a:prstGeom prst="rect">
            <a:avLst/>
          </a:prstGeom>
          <a:ln w="0">
            <a:noFill/>
          </a:ln>
        </p:spPr>
      </p:pic>
      <p:pic>
        <p:nvPicPr>
          <p:cNvPr id="114" name="vrsta_kostanj_les" descr=""/>
          <p:cNvPicPr/>
          <p:nvPr/>
        </p:nvPicPr>
        <p:blipFill>
          <a:blip r:embed="rId3"/>
          <a:stretch/>
        </p:blipFill>
        <p:spPr>
          <a:xfrm>
            <a:off x="2057400" y="3505320"/>
            <a:ext cx="1023840" cy="25700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21:23:57Z</dcterms:created>
  <dc:creator>Administrator</dc:creator>
  <dc:description/>
  <dc:language>en-US</dc:language>
  <cp:lastModifiedBy>Administrator</cp:lastModifiedBy>
  <dcterms:modified xsi:type="dcterms:W3CDTF">2001-03-07T14:19:52Z</dcterms:modified>
  <cp:revision>4</cp:revision>
  <dc:subject/>
  <dc:title>LES in LESNI POLIZDELKI</dc:title>
</cp:coreProperties>
</file>